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19E5-97DB-46F1-B3ED-990DDEED1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E55E-7DE3-4EBE-B88A-18F10D1DE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DD23-D17F-4189-BCAB-860E10125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7057-7BC4-45F3-8480-677CEF456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B73D-29DB-4D0C-8C62-F8FE9E136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3337-8700-4244-B1A2-6B37E7E85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D416-70F1-45F0-9FF4-A9717F53A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2E78-DA2A-4500-9713-BF52BEFDC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02A-FEAF-4E1F-9E48-806CF0FA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470A-A4B6-4476-9F04-074F9846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900-C417-41AF-8450-BB6D646B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515-0A3D-42C3-9FAD-7B63F916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8AD-92D9-48F6-BDBF-8702B600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587-C433-4CEE-898C-00661AE8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F190-B554-4A1E-8FE1-5D427A0F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2A7A-9845-475B-81EC-ED050DE3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EB7-B438-4A9A-8EDE-8486871C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B83-60FF-49C2-966F-F869ACC4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C06B-B88E-44A2-8B1F-9E549A6D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E209-2BFC-4FA3-A24D-EA7EB1E0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F31E-8C66-4A83-8C0B-65913BB15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IDD PP POSITI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6"/>
          <p:cNvSpPr/>
          <p:nvPr/>
        </p:nvSpPr>
        <p:spPr>
          <a:xfrm>
            <a:off x="3124080" y="74628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5cb1"/>
                </a:solidFill>
                <a:latin typeface="Verdana"/>
              </a:rPr>
              <a:t>Tetherless World Constell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-32040" y="3124080"/>
            <a:ext cx="901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Ontology Management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Peter Fox (Semantic Web Cluster lea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ESIP Water Clu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Jan 5,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5" descr="IDD PP POSITI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6"/>
          <p:cNvSpPr/>
          <p:nvPr/>
        </p:nvSpPr>
        <p:spPr>
          <a:xfrm>
            <a:off x="3124080" y="74628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5cb1"/>
                </a:solidFill>
                <a:latin typeface="Verdana"/>
              </a:rPr>
              <a:t>Tetherless World Constell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0AF9-4A54-43F8-8DE2-215E6DE38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1960" y="0"/>
            <a:ext cx="5562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0" y="34290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1371600" y="3429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2438280" y="3429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>
            <a:off x="4038480" y="3429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5029200" y="3429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6934320" y="3429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7620120" y="3429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720" y="2281320"/>
            <a:ext cx="150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o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6320880" y="1671480"/>
            <a:ext cx="26359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isjointnes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rse, …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541440" y="3805200"/>
            <a:ext cx="150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636560" y="1519200"/>
            <a:ext cx="170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a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4191120" y="190512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5410080" y="18288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per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>
            <a:off x="3809880" y="1371600"/>
            <a:ext cx="1600200" cy="3809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>
            <a:off x="5715000" y="3429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647712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2819520" y="36576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4952880" y="36576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6324480" y="3886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Rest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7543800" y="373392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85840" y="5562720"/>
            <a:ext cx="88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iginally from AAAI 1999- Ontologies Panel by Gruninger, Lehmann,  McGuinness, Uschold, Welt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pdated by McGuinn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cription in: www.ksl.stanford.edu/people/dlm/papers/ontologies-come-of-age-abstrac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5" descr="IDD PP POSITI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6"/>
          <p:cNvSpPr/>
          <p:nvPr/>
        </p:nvSpPr>
        <p:spPr>
          <a:xfrm>
            <a:off x="3124080" y="74628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5cb1"/>
                </a:solidFill>
                <a:latin typeface="Verdana"/>
              </a:rPr>
              <a:t>Tetherless World Constell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2998800" y="152280"/>
            <a:ext cx="46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Knowledg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53352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eans - model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stanc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ten the model is really a schema or 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models are either close-world semantics or informal ontologies (see ontology spectr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s ontology ‘management’ due to heteroge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ccess may depend on a rationalization choice, e.g. all closed or all open (world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vel of knowledge representation, RDF, OWL, OWL 2 is another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se of ontology must drive management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5" descr="IDD PP POSITI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6"/>
          <p:cNvSpPr/>
          <p:nvPr/>
        </p:nvSpPr>
        <p:spPr>
          <a:xfrm>
            <a:off x="3124080" y="74628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5cb1"/>
                </a:solidFill>
                <a:latin typeface="Verdana"/>
              </a:rPr>
              <a:t>Tetherless World Constell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2986200" y="152280"/>
            <a:ext cx="28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of logical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data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operabilit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collection, management and a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and information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dissemination and pub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2009-03-05 (Chris Biz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4" descr="lod-datasets_2009-03-05.png"/>
          <p:cNvPicPr/>
          <p:nvPr/>
        </p:nvPicPr>
        <p:blipFill>
          <a:blip r:embed="rId1"/>
          <a:srcRect l="-7646" t="0" r="-7646" b="0"/>
          <a:stretch/>
        </p:blipFill>
        <p:spPr>
          <a:xfrm>
            <a:off x="-541440" y="304920"/>
            <a:ext cx="10142640" cy="6702480"/>
          </a:xfrm>
          <a:prstGeom prst="rect">
            <a:avLst/>
          </a:prstGeom>
          <a:ln w="0">
            <a:noFill/>
          </a:ln>
        </p:spPr>
      </p:pic>
      <p:sp>
        <p:nvSpPr>
          <p:cNvPr id="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5FD5-9ADA-4B8D-A2AC-72CE20684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5" descr="IDD PP POSITI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6"/>
          <p:cNvSpPr/>
          <p:nvPr/>
        </p:nvSpPr>
        <p:spPr>
          <a:xfrm>
            <a:off x="3124080" y="74628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5cb1"/>
                </a:solidFill>
                <a:latin typeface="Verdana"/>
              </a:rPr>
              <a:t>Tetherless World Constell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2997000" y="152280"/>
            <a:ext cx="52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Knowledge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533520" y="1676520"/>
            <a:ext cx="79246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Supposi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s and formalisms will evolve as people and their communities ‘come up to speed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s of use will expand, i.e. application levels will use combinations of inference, rules, qu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Integration framework, mid-level ontologies with modules impor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 an ideal to date but has been limited in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nt progress and emerging better practices tell us that curation (people-intensive) is essential (no formalism or tool to do this, y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cases, use cases, us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New features of OWL 2 are looking very promi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5" descr="IDD PP POSITI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6"/>
          <p:cNvSpPr/>
          <p:nvPr/>
        </p:nvSpPr>
        <p:spPr>
          <a:xfrm>
            <a:off x="3124080" y="74628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5cb1"/>
                </a:solidFill>
                <a:latin typeface="Verdana"/>
              </a:rPr>
              <a:t>Tetherless World Constell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697480" y="152280"/>
            <a:ext cx="633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Candidate ontologies,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33520" y="1676520"/>
            <a:ext cx="79246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pe, I am not going to list them on a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5" descr="IDD PP POSITI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6"/>
          <p:cNvSpPr/>
          <p:nvPr/>
        </p:nvSpPr>
        <p:spPr>
          <a:xfrm>
            <a:off x="3124080" y="74628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5cb1"/>
                </a:solidFill>
                <a:latin typeface="Verdana"/>
              </a:rPr>
              <a:t>Tetherless World Constell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989080" y="152280"/>
            <a:ext cx="294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523880"/>
            <a:ext cx="79246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Due to curation nee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s and formalisms will evolve as people and their communities ‘come up to speed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s of use will expand, i.e. application levels will use combinations of inference, rules, que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es, this is a repe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Governance framework is / will be need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: domain/ application practitioners separated from ‘technology’ practitio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cases are the implementation tes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4:03:49Z</dcterms:created>
  <dc:creator>Peter Darnell</dc:creator>
  <dc:description/>
  <dc:language>en-US</dc:language>
  <cp:lastModifiedBy>Peter Fox</cp:lastModifiedBy>
  <dcterms:modified xsi:type="dcterms:W3CDTF">2010-01-05T21:03:56Z</dcterms:modified>
  <cp:revision>18</cp:revision>
  <dc:subject/>
  <dc:title>PowerPoint Presentation</dc:title>
</cp:coreProperties>
</file>